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81A-A51A-4D85-8CBD-246A8B44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385-BEA0-49CE-A114-4083B633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819-A94D-4B8E-AAA0-FAA37EA6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3A0-B0D9-4FE6-8B32-A03E4729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284C-5CB7-47AA-B443-3940364A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EBD5-9D3A-4617-9D52-DB88DDDB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74BD-00DC-4C83-B1CC-998D9FA1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F4C2-5BB6-4ED4-A6F9-E6BB0EF5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B217-E7EB-4D19-AF85-76356E9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14AC-F1D6-4536-852E-D8A8DC9F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F5DD-6920-4F36-A734-BFFF80C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A7A-3A27-4B38-9C03-0411E145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944B-95AA-44C0-A30C-5B082F1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5AF9-022C-4201-A4C8-351AB749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8861-393D-4C01-94A6-1827121D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C407-1A7D-49E9-BA88-140CD94F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8535-AA13-4B15-A684-68F0FED9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D86-A804-4606-A597-F442AF34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70B-498A-4852-987E-1D49D144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5E6-9ABB-48CF-BD26-A8B099B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23C-AD83-4804-914C-CC6BA2FB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C2A-886A-4329-87DA-A6855528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E5E-EE9E-45FE-A168-D0080654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66C-D73F-4D91-A0CF-2BFE667B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9BFA-B79E-4B2B-AB8D-8FCE4FED28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84d02"/>
                </a:gs>
                <a:gs pos="100000">
                  <a:srgbClr val="bb5f03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7221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33FC-599C-4DAC-AE4E-537F96E84F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Arial Black"/>
              </a:rPr>
              <a:t>A hover puck sitting at the 1 m mark is hit forward. It takes 3 seconds to travel to the 7m mark. Find the puck’s average velocity.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3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5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33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3" name="RCFill"/>
            <p:cNvSpPr/>
            <p:nvPr/>
          </p:nvSpPr>
          <p:spPr>
            <a:xfrm>
              <a:off x="127080" y="6451560"/>
              <a:ext cx="144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81080" y="2743200"/>
          <a:ext cx="5791320" cy="3622680"/>
        </p:xfrm>
        <a:graphic>
          <a:graphicData uri="http://schemas.openxmlformats.org/drawingml/2006/table">
            <a:tbl>
              <a:tblPr/>
              <a:tblGrid>
                <a:gridCol w="576360"/>
                <a:gridCol w="582480"/>
                <a:gridCol w="594000"/>
                <a:gridCol w="566640"/>
                <a:gridCol w="576360"/>
                <a:gridCol w="576000"/>
                <a:gridCol w="582840"/>
                <a:gridCol w="577800"/>
                <a:gridCol w="58248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81080" y="2666880"/>
            <a:ext cx="0" cy="37339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6375240"/>
            <a:ext cx="57913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motion of the following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2193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oman is out for her morning jog. She runs at a constant speed of 4m/s for 4 seconds before needing to slow down for an upcoming traffic l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981080" y="2743200"/>
          <a:ext cx="5791320" cy="3622680"/>
        </p:xfrm>
        <a:graphic>
          <a:graphicData uri="http://schemas.openxmlformats.org/drawingml/2006/table">
            <a:tbl>
              <a:tblPr/>
              <a:tblGrid>
                <a:gridCol w="576360"/>
                <a:gridCol w="582480"/>
                <a:gridCol w="594000"/>
                <a:gridCol w="566640"/>
                <a:gridCol w="576360"/>
                <a:gridCol w="576000"/>
                <a:gridCol w="582840"/>
                <a:gridCol w="577800"/>
                <a:gridCol w="58248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81080" y="2666880"/>
            <a:ext cx="0" cy="37339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6375240"/>
            <a:ext cx="57913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219320"/>
            <a:ext cx="754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slows down to a stop in 2 sec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waits at the corner for 2 more seconds, before crossing the street and speeding back up to 5 m/s in 2 sec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81080" y="2743200"/>
          <a:ext cx="5791320" cy="3622680"/>
        </p:xfrm>
        <a:graphic>
          <a:graphicData uri="http://schemas.openxmlformats.org/drawingml/2006/table">
            <a:tbl>
              <a:tblPr/>
              <a:tblGrid>
                <a:gridCol w="576360"/>
                <a:gridCol w="582480"/>
                <a:gridCol w="594000"/>
                <a:gridCol w="566640"/>
                <a:gridCol w="576360"/>
                <a:gridCol w="576000"/>
                <a:gridCol w="582840"/>
                <a:gridCol w="577800"/>
                <a:gridCol w="58248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81080" y="2666880"/>
            <a:ext cx="0" cy="37339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6375240"/>
            <a:ext cx="57913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2670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6400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6400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219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acceleration of the woman for each section of time in this gra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81080" y="2743200"/>
          <a:ext cx="5791320" cy="3622680"/>
        </p:xfrm>
        <a:graphic>
          <a:graphicData uri="http://schemas.openxmlformats.org/drawingml/2006/table">
            <a:tbl>
              <a:tblPr/>
              <a:tblGrid>
                <a:gridCol w="576360"/>
                <a:gridCol w="582480"/>
                <a:gridCol w="594000"/>
                <a:gridCol w="566640"/>
                <a:gridCol w="576360"/>
                <a:gridCol w="576000"/>
                <a:gridCol w="582840"/>
                <a:gridCol w="577800"/>
                <a:gridCol w="58248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6324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981080" y="2666880"/>
            <a:ext cx="0" cy="373392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6375240"/>
            <a:ext cx="579132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42670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267080"/>
            <a:ext cx="121932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6324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64008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6400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29400" y="3733920"/>
            <a:ext cx="1143000" cy="2666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5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6400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olley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81080" y="2133720"/>
          <a:ext cx="6019560" cy="4231800"/>
        </p:xfrm>
        <a:graphic>
          <a:graphicData uri="http://schemas.openxmlformats.org/drawingml/2006/table">
            <a:tbl>
              <a:tblPr/>
              <a:tblGrid>
                <a:gridCol w="599040"/>
                <a:gridCol w="605520"/>
                <a:gridCol w="617400"/>
                <a:gridCol w="588960"/>
                <a:gridCol w="599040"/>
                <a:gridCol w="598680"/>
                <a:gridCol w="605880"/>
                <a:gridCol w="600480"/>
                <a:gridCol w="605520"/>
                <a:gridCol w="5990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81080" y="2133360"/>
            <a:ext cx="0" cy="426708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6375240"/>
            <a:ext cx="6096240" cy="255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Arial Black"/>
              </a:rPr>
              <a:t>An object has an initial speed of 30 m/s and a final speed of 60 m/s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Arial Black"/>
              </a:rPr>
              <a:t>Which of the following is correct?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20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bject’s speed is cons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bjects speed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st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unable to determine whether the speed is constant or 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more inform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08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At a certain moment, an object is sliding toward the left at a speed of 3 m/s along a horizontal surface.  You are given no information on whether it is slowing down, speeding up or moving with a constant speed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What is its acceleration?</a:t>
            </a:r>
            <a:r>
              <a:rPr b="1" lang="en-US" sz="4000" spc="-1" strike="noStrike">
                <a:solidFill>
                  <a:srgbClr val="feec94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211" name="TPChart"/>
          <p:cNvGraphicFramePr/>
          <p:nvPr/>
        </p:nvGraphicFramePr>
        <p:xfrm>
          <a:off x="4508640" y="179244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79244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specified without more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15" name="RCFill"/>
            <p:cNvSpPr/>
            <p:nvPr/>
          </p:nvSpPr>
          <p:spPr>
            <a:xfrm>
              <a:off x="127080" y="6451560"/>
              <a:ext cx="144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Solving a Physics Problem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hysics problem can be solved easily by taking the correct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what variable you are looking f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list of all of your given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n equation(s) that contains most or all of the variables listed in your given colum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pulate the equation(s) to isolate the variable you are looking f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g the numbers into your algebraic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5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334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men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for Exam 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962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m Up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five steps (in order) to solving a physics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572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Lesson #9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Topic: </a:t>
            </a: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Exam 1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52388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ff to do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solving physics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heck Exam 1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 tutoring time (if nee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 bonus problem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all assignments are comple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Vocab Review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mo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3 SI units used in this cla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a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lac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Lesson #7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Topic: </a:t>
            </a: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Instantaneous and Changing Velocity</a:t>
            </a:r>
            <a:endParaRPr b="1" lang="en-US" sz="18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difference between average and instantaneous velo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ree ways to change an object’s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2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63868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3 Practice Problems 6 -10 &amp; 18 – 2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e tomorrow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495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velocity of the troll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Velocity is…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22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divided by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pe of a d vs. t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31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76a03">
                    <a:alpha val="4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1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Acceleration is…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23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te in which velocity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ange in velocity divided by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pe of a v vs. t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38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76a03">
                    <a:alpha val="4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1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Algebra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581280" y="914400"/>
                <a:ext cx="304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762120" y="1600200"/>
            <a:ext cx="27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for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00400" y="3657600"/>
                <a:ext cx="41911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838080" y="3962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for 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the velocity for each section of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981080" y="2133720"/>
          <a:ext cx="6019560" cy="4231800"/>
        </p:xfrm>
        <a:graphic>
          <a:graphicData uri="http://schemas.openxmlformats.org/drawingml/2006/table">
            <a:tbl>
              <a:tblPr/>
              <a:tblGrid>
                <a:gridCol w="599040"/>
                <a:gridCol w="605520"/>
                <a:gridCol w="617400"/>
                <a:gridCol w="588960"/>
                <a:gridCol w="599040"/>
                <a:gridCol w="598680"/>
                <a:gridCol w="605880"/>
                <a:gridCol w="600480"/>
                <a:gridCol w="605520"/>
                <a:gridCol w="5990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81080" y="2133360"/>
            <a:ext cx="0" cy="426708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6375240"/>
            <a:ext cx="6096240" cy="255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Graphing Mo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3505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oy is running at a constant velocity of 3m/s for 3 seconds, slows to a stop in 3 seconds and then stands there for 2 seconds, then accelerates to 2m/s in 2 second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981080" y="2133720"/>
          <a:ext cx="6019560" cy="4231800"/>
        </p:xfrm>
        <a:graphic>
          <a:graphicData uri="http://schemas.openxmlformats.org/drawingml/2006/table">
            <a:tbl>
              <a:tblPr/>
              <a:tblGrid>
                <a:gridCol w="599040"/>
                <a:gridCol w="605520"/>
                <a:gridCol w="617400"/>
                <a:gridCol w="588960"/>
                <a:gridCol w="599040"/>
                <a:gridCol w="598680"/>
                <a:gridCol w="605880"/>
                <a:gridCol w="600480"/>
                <a:gridCol w="605520"/>
                <a:gridCol w="5990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152280" y="3048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m/s, 0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981080" y="2133360"/>
            <a:ext cx="0" cy="426708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6375240"/>
            <a:ext cx="6096240" cy="2556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Bonus Problems: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2 pts each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feec94"/>
                </a:solidFill>
                <a:latin typeface="Arial Black"/>
              </a:rPr>
              <a:t>To be handed in on a separate sheet of paper.)</a:t>
            </a:r>
            <a:endParaRPr b="1" lang="en-US" sz="2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07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n walks to his friend’s house. He walks 20 m east, then 30 m north, and then 20 m east. Find the man’s total distance traveled and final displa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uck is driving in the right lane on the interstate with a speed of 9 m/s. A car is 30 m behind the truck moving with a speed of 27m/s. If the vehicles maintain this speed, how far must the car travel before it catches up with the truck? How long will this tak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*hint* remember motion is relativ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celeration Trolley Demonstr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average velocity of the trolle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initial instantaneous velocity of the trolle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final instantaneous velocity of the trolley us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time was the trolley in mo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did the velocity of the trolley change during this ti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s the change in velocity per unit of tim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858000" y="2743200"/>
                <a:ext cx="1295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90720" y="5867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trolley’s accele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4419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Acceleratio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ion is the rate of change of an objects velo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xpression is more useful if we treat it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 can change it’s velocity (accelerate)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ing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ing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819520" y="1523880"/>
                <a:ext cx="12189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57600" y="3048120"/>
                <a:ext cx="15667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37160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ce is driving down the road going 30 m/s when a deer jumps out in front of her. She stops her car in 3 seconds. What was the acceleration of her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3716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Joe is racing his Mustang in a competition. His car can accelerate at a rate of 5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He starts from rest and gets his car up to 40 m/s. How long did it take for the car to get up to this spee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3716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Jane is traveling down the interstate at 25m/s when she needs to slow down for a construction zone. She accelerates at a rate of -2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5 seconds. What is her speed through the construction zo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Acceleration is …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graphicFrame>
        <p:nvGraphicFramePr>
          <p:cNvPr id="12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ing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ing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&amp;2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2,&amp;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31" name="RCFill"/>
            <p:cNvSpPr/>
            <p:nvPr/>
          </p:nvSpPr>
          <p:spPr>
            <a:xfrm>
              <a:off x="127080" y="6451560"/>
              <a:ext cx="144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04560" y="11426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velocity vs. time graph for the motion of an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motion of an object given a velocity vs. time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572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Lesson #8</a:t>
            </a:r>
            <a:br>
              <a:rPr sz="1800"/>
            </a:br>
            <a:r>
              <a:rPr b="0" lang="en-US" sz="1800" spc="-1" strike="noStrike">
                <a:solidFill>
                  <a:srgbClr val="feec94"/>
                </a:solidFill>
                <a:latin typeface="Arial Black"/>
              </a:rPr>
              <a:t>Topic: </a:t>
            </a:r>
            <a:r>
              <a:rPr b="1" lang="en-US" sz="1800" spc="-1" strike="noStrike">
                <a:solidFill>
                  <a:srgbClr val="feec94"/>
                </a:solidFill>
                <a:latin typeface="Arial Black"/>
              </a:rPr>
              <a:t>Graphing Accel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3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5715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“Graphing Acceleration”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s Practi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ch the graph using a motion detec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Network User</cp:lastModifiedBy>
  <dcterms:modified xsi:type="dcterms:W3CDTF">2008-07-08T19:35:35Z</dcterms:modified>
  <cp:revision>40</cp:revision>
  <dc:subject/>
  <dc:title>Lesson #1 8/29/06 </dc:title>
</cp:coreProperties>
</file>